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2421-504C-43AB-9C86-F588A7102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8643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85480" y="4044240"/>
            <a:ext cx="8643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317C-7615-4F17-9D10-C4BD0D216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4920" y="135720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85480" y="404424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4920" y="404424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54BE-0531-485D-9688-D661E6CA6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27831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8320" y="1357200"/>
            <a:ext cx="27831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30800" y="1357200"/>
            <a:ext cx="27831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85480" y="4044240"/>
            <a:ext cx="27831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8320" y="4044240"/>
            <a:ext cx="27831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30800" y="4044240"/>
            <a:ext cx="27831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F297-7F41-49EB-8A66-B65FFA3F9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CCB69-3133-4482-B0C8-7E9F37F65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85480" y="1357200"/>
            <a:ext cx="8643960" cy="51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E0F6F-3E58-4735-A332-0D8817993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864396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95320-50C4-47A7-8074-CC3FB5721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421812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4920" y="1357200"/>
            <a:ext cx="421812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35AE8-1473-495E-B46F-E02771978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45B94-A821-44FB-877B-4475E6EDD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14240" y="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7577E-4D10-4BE2-8745-CF81F507A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4920" y="1357200"/>
            <a:ext cx="421812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85480" y="404424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2E935-1490-4B51-8DD1-F53F8DEBB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85480" y="1357200"/>
            <a:ext cx="8643960" cy="51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EA7B-DA0E-46A5-860B-E6ECC1FED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421812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4920" y="135720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14920" y="404424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EEFE1-9968-4174-B2F2-D39D57893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920" y="135720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85480" y="4044240"/>
            <a:ext cx="8643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342B1-92ED-4051-9871-DD9699B12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8643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85480" y="4044240"/>
            <a:ext cx="8643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38D8E-28E9-44BA-A2AD-EB4FEBF27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4920" y="135720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85480" y="404424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14920" y="404424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61B02-FDB4-4B10-97C1-45230A91D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27831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08320" y="1357200"/>
            <a:ext cx="27831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30800" y="1357200"/>
            <a:ext cx="27831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85480" y="4044240"/>
            <a:ext cx="27831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08320" y="4044240"/>
            <a:ext cx="27831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30800" y="4044240"/>
            <a:ext cx="27831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58220-1C63-45BB-A397-17155F8F4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864396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DA60-547B-4A6F-910C-8490893B3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421812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4920" y="1357200"/>
            <a:ext cx="421812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039B-BB57-4291-942F-B860D809F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8D8F-6AC4-411F-AAF4-15626CD39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14240" y="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F605-CD8D-4BE5-9604-223470286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4920" y="1357200"/>
            <a:ext cx="421812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85480" y="404424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6873-0ACA-4B81-AA88-5CE4FE132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421812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920" y="135720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4920" y="404424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B983-D5F0-4EC3-AF19-576AAFE5A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920" y="135720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85480" y="4044240"/>
            <a:ext cx="8643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B8DF-BC55-4551-A6DB-B0403E2D8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480" y="1357200"/>
            <a:ext cx="864396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0D420-BE26-43D8-81D5-971334907D9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85480" y="1357200"/>
            <a:ext cx="864396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3AE53-DFC3-47FA-905F-024F052BAC9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357720" y="1428480"/>
            <a:ext cx="56289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785760" y="3071520"/>
            <a:ext cx="370044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Автор данного шаблона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Ермолаева Ирина Алексеев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учитель информатики и математик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МОУ «Павловская сош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с.Павловс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Алтайский кра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85480" y="1357200"/>
            <a:ext cx="864396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706320" y="-6480"/>
            <a:ext cx="8242560" cy="10130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1571400" y="1357200"/>
            <a:ext cx="735804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http://im6-tub.yandex.net/i?id=313833065-30-7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http://img1.liveinternet.ru/images/attach/c/2/73/317/73317663_1b8597b9ee0bt.jp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http://rusforumz.com/library/template/fon/number/67-1.jpg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Рисунок 5" descr=""/>
          <p:cNvPicPr/>
          <p:nvPr/>
        </p:nvPicPr>
        <p:blipFill>
          <a:blip r:embed="rId2"/>
          <a:stretch/>
        </p:blipFill>
        <p:spPr>
          <a:xfrm>
            <a:off x="428760" y="1285920"/>
            <a:ext cx="828720" cy="92700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6" descr=""/>
          <p:cNvPicPr/>
          <p:nvPr/>
        </p:nvPicPr>
        <p:blipFill>
          <a:blip r:embed="rId3"/>
          <a:stretch/>
        </p:blipFill>
        <p:spPr>
          <a:xfrm>
            <a:off x="357120" y="2428920"/>
            <a:ext cx="1000080" cy="142884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7" descr=""/>
          <p:cNvPicPr/>
          <p:nvPr/>
        </p:nvPicPr>
        <p:blipFill>
          <a:blip r:embed="rId4"/>
          <a:stretch/>
        </p:blipFill>
        <p:spPr>
          <a:xfrm>
            <a:off x="357120" y="4429080"/>
            <a:ext cx="1023840" cy="8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8T03:48:09Z</dcterms:created>
  <dc:creator>Comp</dc:creator>
  <dc:description/>
  <dc:language>en-US</dc:language>
  <cp:lastModifiedBy>Comp</cp:lastModifiedBy>
  <dcterms:modified xsi:type="dcterms:W3CDTF">2011-07-28T03:54:40Z</dcterms:modified>
  <cp:revision>2</cp:revision>
  <dc:subject/>
  <dc:title>Слайд 1</dc:title>
</cp:coreProperties>
</file>