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7D6-82F4-4CA1-99BE-7CD4B8BD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7F3-DA42-4802-842F-4250947F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0E1-53E3-4DA8-BE68-0C2FDA1D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7C4-04DB-4DAF-A020-64522795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92C2-14BD-49C5-9407-706008D0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DB8B-F324-4B15-AA39-A881B42D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2565-B2F0-4116-B291-F49804C7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B269-388A-40AC-A0C7-A855C571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4DA4-413A-4486-9D2C-0ACCEE94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666D-F66F-460E-9501-186E0CC3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001D-530F-460B-A721-BC538E52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0D2-B978-409A-969F-1AE712F0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8EC6-2F9E-49E1-A263-40C5F00E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B6F3-1511-4CA3-92BD-4AC15B28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C683-AC09-452C-9C19-921B6C00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64CC-8019-4130-BA6A-E65D3C3A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9B4B-812D-46B0-AAC1-13834B47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7FC-407B-4B42-964C-D951F774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2A1-72FF-4FFA-9639-06C14CDA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ADC-70B0-4F57-9C45-6D5AC7DC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65D-14B3-4421-876E-CC3147ED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C0B-7DA8-470B-9521-8BE6A82F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B3C-1AE6-428D-A688-02F59955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11B-6FC0-40CB-8AEF-755752D2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388D-70B3-4C78-B725-8EC45427E5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6E28-1FB4-4485-925E-A646E18A94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wallpampers.ru/pictures/1672/1440_globe.jpg" TargetMode="External"/><Relationship Id="rId3" Type="http://schemas.openxmlformats.org/officeDocument/2006/relationships/hyperlink" Target="http://files.vector-images.com/clipart/schoolsupplies_gk2.gif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3857400"/>
            <a:ext cx="40719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76092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2428920"/>
            <a:ext cx="66866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wallpampers.ru/pictures/1672/1440_globe.jpg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2.gif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88" name="Picture 2" descr="d:\Мои документы\Мои рисунки\schoolsupplies_gk2.gif"/>
          <p:cNvPicPr/>
          <p:nvPr/>
        </p:nvPicPr>
        <p:blipFill>
          <a:blip r:embed="rId4"/>
          <a:stretch/>
        </p:blipFill>
        <p:spPr>
          <a:xfrm>
            <a:off x="428760" y="3571920"/>
            <a:ext cx="1069920" cy="79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1440_globe.jpg"/>
          <p:cNvPicPr/>
          <p:nvPr/>
        </p:nvPicPr>
        <p:blipFill>
          <a:blip r:embed="rId5"/>
          <a:stretch/>
        </p:blipFill>
        <p:spPr>
          <a:xfrm>
            <a:off x="428760" y="2500200"/>
            <a:ext cx="13856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7:09:33Z</dcterms:created>
  <dc:creator>Comp</dc:creator>
  <dc:description/>
  <dc:language>en-US</dc:language>
  <cp:lastModifiedBy>Comp</cp:lastModifiedBy>
  <dcterms:modified xsi:type="dcterms:W3CDTF">2011-07-31T17:14:32Z</dcterms:modified>
  <cp:revision>2</cp:revision>
  <dc:subject/>
  <dc:title>Слайд 1</dc:title>
</cp:coreProperties>
</file>